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8.png" ContentType="image/png"/>
  <Override PartName="/ppt/media/image16.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7933-1BB2-4166-AC80-71AE30D73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E24F-CEDE-4A4E-BAE3-4BEF8BE50C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645B-0FDB-4118-AC6C-7A08642CE9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272D-8A50-4BAA-A5EC-CA93893285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E2EE-0640-4BC0-A6C5-5714229684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0EB1-55FE-4C42-8988-8E49F04C4B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1221-F435-4AAF-985A-0F37AF0073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336-E8F3-4C5C-A159-5E22E5E7EA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C56A-9AD2-4537-B72A-C15D0148D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3AAD-750D-43F9-95B6-AA0A75BF92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104F-564B-424F-B2E9-8352365DC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10CA-9355-4231-92F5-02DE871ECA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AB74-018F-4815-9C54-0D98DD88D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039F-7AAC-48D9-8711-7BC7BFCE5C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52A2-C0F1-41F8-88B3-E9913671D9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C7E3-FD70-47C2-9089-435E7B746C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939C9-BB3A-4160-89A2-2C1F95901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74758-F1DA-4D1F-A079-E293179C0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A4E0F-5BEE-4D07-AAA2-3398ED290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E270C-A86E-4779-8D6A-05BE9D49D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C922D5-8833-46C9-8A3F-BF2E0E405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B46811-9E38-428C-BA67-548A0CB5B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C85AE5-EB47-46E0-ACAA-90984DE7E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2A1347-4A2E-4E2C-9B7D-6814E1131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9A4836-0152-4B7A-983E-B31B5A315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F6F282-8667-4355-87DC-07D7038E7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806991-DCF2-4D22-B3B1-08C7D6300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D3BD-645B-4982-8280-DEC6C651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017496-37CC-46F4-A296-8F618C776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A1922E-A735-4D92-AE15-56EA6887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56AE6E-C420-42E5-8B61-C0D56D9E5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021A1E-9625-490D-9C8A-AFACC1E53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1FD4B1-0D5D-475E-BDF7-165CEB574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5310FF-D1A6-4A3B-B0EF-66C7B941C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8D461-AB69-4171-A44B-6C318BA53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6742E-154B-4129-B71F-532D28F17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F4160-8CDA-4F30-BAAA-7458BA61D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A6B5A-B04A-470E-8BAA-AA125FD37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B523-D070-4F35-9DEA-793125FD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00A5E-6AE4-47DE-BAA6-1EF20F03E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12E01-2AEC-49A8-B9FA-6E0F542EC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1EDDA-AD52-4CA1-8393-44F62C714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275E1-4E09-4152-827D-3DF0A9FA0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76D57-8812-4C6A-9466-99896C154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AA0267-21E9-4AA2-AEF5-045B70429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8B114-398F-4CCD-AEA1-5D22FA300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691903D-2784-4D9B-B796-F65EDAD630C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DA9982E-8CA3-46D4-8D05-2A008C286F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1FBED72-9743-4F34-9CBD-71EB3668C1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E9D8-DCFA-4B79-90E9-EC0CC68C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AE7FA1E-01E9-45C6-AC38-67C9A0D0BB5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49935EB-9EB3-40D7-8151-0857AC1471C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DFE4D1A-D4DD-4BB3-B636-F11C1D294F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ADEEC1D-3319-4916-88F9-19C200A800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812D06D-0428-42D7-B4D6-452DECCF41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6CAF017-E304-4763-A2CF-70FA90553F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1130E99-9A64-4BF6-A151-3354FBC557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83A7DCB-3EE4-4224-BC64-6804161C9FE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1FE48FC-B408-4FEC-B23F-F421C348138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7D90-00D9-4AF6-A269-A534E04D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FC9C-B32A-49F5-85EC-FDB119DD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DEA14-9C51-43AA-8B73-09FC71214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5485-9CAC-4364-AD42-A55A50B3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605F5-E96A-4336-A78F-2A960A73D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82F2-6D94-449E-8E05-4639A2A3F21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0AE8-9E18-4035-AB67-ECC215C77C7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795C-55C0-4CE7-8C66-1B907373AC0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27C0-F726-4BE6-96A5-7B6C0E11024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300 BCE – 232 BCE</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evin Ouellette</a:t>
            </a:r>
            <a:endParaRPr b="0" lang="en-US" sz="2200" spc="-1" strike="noStrike">
              <a:solidFill>
                <a:srgbClr val="ffffff"/>
              </a:solidFill>
              <a:latin typeface="Constantia"/>
            </a:endParaRPr>
          </a:p>
        </p:txBody>
      </p:sp>
      <p:pic>
        <p:nvPicPr>
          <p:cNvPr id="178" name="Title 1" descr=""/>
          <p:cNvPicPr/>
          <p:nvPr/>
        </p:nvPicPr>
        <p:blipFill>
          <a:blip r:embed="rId1"/>
          <a:stretch/>
        </p:blipFill>
        <p:spPr>
          <a:xfrm>
            <a:off x="493560" y="1420920"/>
            <a:ext cx="8321760" cy="1992240"/>
          </a:xfrm>
          <a:prstGeom prst="rect">
            <a:avLst/>
          </a:prstGeom>
          <a:ln w="0">
            <a:noFill/>
          </a:ln>
        </p:spPr>
      </p:pic>
      <p:pic>
        <p:nvPicPr>
          <p:cNvPr id="179" name="Picture 2" descr="http://www.hyperhistory.com/online_n2/people_n2/ppersons2_n2/images_ppersons2/asoka.jpg"/>
          <p:cNvPicPr/>
          <p:nvPr/>
        </p:nvPicPr>
        <p:blipFill>
          <a:blip r:embed="rId2"/>
          <a:stretch/>
        </p:blipFill>
        <p:spPr>
          <a:xfrm>
            <a:off x="357120" y="285840"/>
            <a:ext cx="1976400" cy="2500200"/>
          </a:xfrm>
          <a:prstGeom prst="rect">
            <a:avLst/>
          </a:prstGeom>
          <a:ln w="0">
            <a:noFill/>
          </a:ln>
        </p:spPr>
      </p:pic>
      <p:pic>
        <p:nvPicPr>
          <p:cNvPr id="180" name="Picture 4" descr="http://www.netfundu.com/indpersnl/images/ashoka.jpg"/>
          <p:cNvPicPr/>
          <p:nvPr/>
        </p:nvPicPr>
        <p:blipFill>
          <a:blip r:embed="rId3"/>
          <a:stretch/>
        </p:blipFill>
        <p:spPr>
          <a:xfrm>
            <a:off x="7072200" y="357120"/>
            <a:ext cx="1724040" cy="240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400" y="1523880"/>
            <a:ext cx="8258040" cy="16192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hoka was first introduced to Buddhism when he was injured on the battlefield and was tended to by a Buddhist monk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2" name="Title 2" descr=""/>
          <p:cNvPicPr/>
          <p:nvPr/>
        </p:nvPicPr>
        <p:blipFill>
          <a:blip r:embed="rId1"/>
          <a:stretch/>
        </p:blipFill>
        <p:spPr>
          <a:xfrm>
            <a:off x="219240" y="146160"/>
            <a:ext cx="8474040" cy="1231920"/>
          </a:xfrm>
          <a:prstGeom prst="rect">
            <a:avLst/>
          </a:prstGeom>
          <a:ln w="0">
            <a:noFill/>
          </a:ln>
        </p:spPr>
      </p:pic>
      <p:pic>
        <p:nvPicPr>
          <p:cNvPr id="213" name="Picture 3" descr=""/>
          <p:cNvPicPr/>
          <p:nvPr/>
        </p:nvPicPr>
        <p:blipFill>
          <a:blip r:embed="rId2"/>
          <a:stretch/>
        </p:blipFill>
        <p:spPr>
          <a:xfrm>
            <a:off x="428760" y="3000240"/>
            <a:ext cx="2619360" cy="3515040"/>
          </a:xfrm>
          <a:prstGeom prst="rect">
            <a:avLst/>
          </a:prstGeom>
          <a:ln w="0">
            <a:noFill/>
          </a:ln>
        </p:spPr>
      </p:pic>
      <p:pic>
        <p:nvPicPr>
          <p:cNvPr id="214" name="Picture 4" descr=""/>
          <p:cNvPicPr/>
          <p:nvPr/>
        </p:nvPicPr>
        <p:blipFill>
          <a:blip r:embed="rId3"/>
          <a:stretch/>
        </p:blipFill>
        <p:spPr>
          <a:xfrm>
            <a:off x="6215040" y="3027240"/>
            <a:ext cx="2524320" cy="344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 married a commoner called Karuwaki, she was a fisher.</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He met her before his reign when he was sent to Taxshila to subdue an uprising as a general of the Mauryan  empir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ue to Ashoka’s success in the quelling of the uprising and his growing popularity, his step-brothers forced him into exile to prevent him from obtaining the thron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 however returned two years later being summoned by the emperor to quell another uprising.</a:t>
            </a:r>
            <a:endParaRPr b="0" lang="en-US" sz="2600" spc="-1" strike="noStrike">
              <a:solidFill>
                <a:srgbClr val="ffffff"/>
              </a:solidFill>
              <a:latin typeface="Constantia"/>
            </a:endParaRPr>
          </a:p>
        </p:txBody>
      </p:sp>
      <p:pic>
        <p:nvPicPr>
          <p:cNvPr id="21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Before  Ashoka’s  conquest of Kalinga he was known as Chandashok ( Chanda-cruel, shok-associated with Hindu goddess of eternal energy) Asoka was considered a bloodthirsty and power greedy individual. It was not until later, after the conquest of Kalinga, where Asoka received his revelation that he was considered great.</a:t>
            </a:r>
            <a:endParaRPr b="0" lang="en-US" sz="2600" spc="-1" strike="noStrike">
              <a:solidFill>
                <a:srgbClr val="ffffff"/>
              </a:solidFill>
              <a:latin typeface="Constantia"/>
            </a:endParaRPr>
          </a:p>
        </p:txBody>
      </p:sp>
      <p:pic>
        <p:nvPicPr>
          <p:cNvPr id="21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soka - The Great Biography,Ashoka - The Great The Legend,Ashoka - The Great Interviews,Ashoka - The Great biography for kids,,Ashoka - The Great Autobiography, Ashoka Chakra, Son of Binder Sar, Grandson of Chander Gupta Maurya, Patli Putra, Radha Gupt, Suman, Ashoka great philanthropist, Himalayas, Nepal, Kashmir, Mysore State, Baluchistan, Afghanistan, Brahamputra, Saurashtra, Junagarh, Godawari, Mahanadi, Bay of Bengal,Kalinga war, Anandiji, Ashoka embraced Budhism,History Biography for children,Life line of Ashoka - The Great,Write life sketch of Ashoka - The Great,Mauryan Emperor (273-232 B.C.)." </a:t>
            </a:r>
            <a:r>
              <a:rPr b="0" lang="en-US" sz="2000" spc="-1" strike="noStrike" u="sng">
                <a:solidFill>
                  <a:srgbClr val="ffffff"/>
                </a:solidFill>
                <a:uFillTx/>
                <a:latin typeface="Constantia"/>
              </a:rPr>
              <a:t>4to40:Indian Kids Portal,Kids Portal for Parents,Kids Networking site,children, kids, parents, news, jokes, stories, books, poems, activities, features, parenting, environment, e-pals, chat, postcards, opinion, forum, free, school, india</a:t>
            </a:r>
            <a:r>
              <a:rPr b="0" lang="en-US" sz="2000" spc="-1" strike="noStrike">
                <a:solidFill>
                  <a:srgbClr val="ffffff"/>
                </a:solidFill>
                <a:latin typeface="Constantia"/>
              </a:rPr>
              <a:t>. 16 Dec. 2009 &lt;http://www.4to40.com/legends/index.asp?id=133&gt;.</a:t>
            </a:r>
            <a:endParaRPr b="0" lang="en-US" sz="2000" spc="-1" strike="noStrike">
              <a:solidFill>
                <a:srgbClr val="ffffff"/>
              </a:solidFill>
              <a:latin typeface="Constantia"/>
            </a:endParaRPr>
          </a:p>
        </p:txBody>
      </p:sp>
      <p:pic>
        <p:nvPicPr>
          <p:cNvPr id="22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523880"/>
            <a:ext cx="8229600" cy="45720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nstantia"/>
              </a:rPr>
              <a:t>"Ashoka the Great -." </a:t>
            </a:r>
            <a:r>
              <a:rPr b="0" i="1" lang="en-CA" sz="2000" spc="-1" strike="noStrike">
                <a:solidFill>
                  <a:srgbClr val="ffffff"/>
                </a:solidFill>
                <a:latin typeface="Constantia"/>
              </a:rPr>
              <a:t>Wikipedia, the free encyclopedia</a:t>
            </a:r>
            <a:r>
              <a:rPr b="0" lang="en-CA" sz="2000" spc="-1" strike="noStrike">
                <a:solidFill>
                  <a:srgbClr val="ffffff"/>
                </a:solidFill>
                <a:latin typeface="Constantia"/>
              </a:rPr>
              <a:t>. Web. 21 Dec. 2009. &lt;http://en.wikipedia.org/wiki/Ashoka_the_Great&gt;.</a:t>
            </a:r>
            <a:endParaRPr b="0" lang="en-US" sz="20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nstantia"/>
              </a:rPr>
              <a:t>"Google Image Result for http://upload.wikimedia.org/wikipedia/commons/thumb/1/17/Ashoka_Chakra.svg/414px-Ashoka_Chakra.svg.png." </a:t>
            </a:r>
            <a:r>
              <a:rPr b="0" i="1" lang="en-CA" sz="2000" spc="-1" strike="noStrike">
                <a:solidFill>
                  <a:srgbClr val="ffffff"/>
                </a:solidFill>
                <a:latin typeface="Constantia"/>
              </a:rPr>
              <a:t>Google Images</a:t>
            </a:r>
            <a:r>
              <a:rPr b="0" lang="en-CA" sz="2000" spc="-1" strike="noStrike">
                <a:solidFill>
                  <a:srgbClr val="ffffff"/>
                </a:solidFill>
                <a:latin typeface="Constantia"/>
              </a:rPr>
              <a:t>. Web. 21 Dec. 2009. &lt;http://images.google.ca/imgres?imgurl=http://upload.wikimedia.org/wikipedia/commons/thumb/1/17/Ashoka_Chakra.svg/414px-Ashoka_Chakra.svg.png&amp;imgrefurl=http://commons.wikimedia.org/wiki/File:Ashoka_Chakra.svg&amp;usg=__eBagPau5WWRznJwTI0nT19FegWM=&amp;h=414&amp;w=414&amp;sz=57&amp;hl=en&amp;start=1&amp;um=1&amp;tbnid=tHfV9q0dZR2ogM:&amp;tbnh=125&amp;tbnw=125&amp;prev=/images%3Fq%3Dashoka%2527s%2Bchakra%26hl%3Den%26client%3Dfirefox-a%26rls%3Dorg.mozilla:en-US:official%26sa%3DN%26um%3D1&gt;.</a:t>
            </a:r>
            <a:endParaRPr b="0" lang="en-US" sz="2000" spc="-1" strike="noStrike">
              <a:solidFill>
                <a:srgbClr val="ffffff"/>
              </a:solidFill>
              <a:latin typeface="Constantia"/>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mage Result for http://www.khosla.in/images/Humanity.jpg." </a:t>
            </a:r>
            <a:r>
              <a:rPr b="0" i="1" lang="en-CA" sz="2600" spc="-1" strike="noStrike">
                <a:solidFill>
                  <a:srgbClr val="ffffff"/>
                </a:solidFill>
                <a:latin typeface="Constantia"/>
              </a:rPr>
              <a:t>Google</a:t>
            </a:r>
            <a:r>
              <a:rPr b="0" lang="en-CA" sz="2600" spc="-1" strike="noStrike">
                <a:solidFill>
                  <a:srgbClr val="ffffff"/>
                </a:solidFill>
                <a:latin typeface="Constantia"/>
              </a:rPr>
              <a:t>. Web. 21 Dec. 2009. &lt;http://www.google.ca/imgres?imgurl=http://www.khosla.in/images/Humanity.jpg&amp;imgrefurl=http://www.khosla.in/inspiration.aspx&amp;h=446&amp;w=500&amp;sz=23&amp;tbnid=fvXVEqUEXi9RzM:&amp;tbnh=116&amp;tbnw=130&amp;prev=/images%3Fq%3Dashoka%2Bthe%2Bgreat&amp;hl=en&amp;usg=__ydqE6S83tWX7oq2wDkcKdEU2kSc=&amp;ei=dMEuS7foO4G0Nu2p1I4J&amp;sa=X&amp;oi=image_result&amp;resnum=4&amp;ct=image&amp;ved=0CBMQ9QEwAw&gt;.</a:t>
            </a:r>
            <a:endParaRPr b="0" lang="en-US" sz="2600" spc="-1" strike="noStrike">
              <a:solidFill>
                <a:srgbClr val="ffffff"/>
              </a:solidFill>
              <a:latin typeface="Constantia"/>
            </a:endParaRPr>
          </a:p>
        </p:txBody>
      </p:sp>
      <p:pic>
        <p:nvPicPr>
          <p:cNvPr id="22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Content Placeholder 4" descr="ashoka-empire.jpg"/>
          <p:cNvPicPr/>
          <p:nvPr/>
        </p:nvPicPr>
        <p:blipFill>
          <a:blip r:embed="rId1"/>
          <a:stretch/>
        </p:blipFill>
        <p:spPr>
          <a:xfrm>
            <a:off x="214200" y="2214720"/>
            <a:ext cx="3718080" cy="4429080"/>
          </a:xfrm>
          <a:prstGeom prst="rect">
            <a:avLst/>
          </a:prstGeom>
          <a:ln w="0">
            <a:noFill/>
          </a:ln>
        </p:spPr>
      </p:pic>
      <p:pic>
        <p:nvPicPr>
          <p:cNvPr id="182" name="Title 2" descr=""/>
          <p:cNvPicPr/>
          <p:nvPr/>
        </p:nvPicPr>
        <p:blipFill>
          <a:blip r:embed="rId2"/>
          <a:stretch/>
        </p:blipFill>
        <p:spPr>
          <a:xfrm>
            <a:off x="219240" y="146160"/>
            <a:ext cx="8474040" cy="1231920"/>
          </a:xfrm>
          <a:prstGeom prst="rect">
            <a:avLst/>
          </a:prstGeom>
          <a:ln w="0">
            <a:noFill/>
          </a:ln>
        </p:spPr>
      </p:pic>
      <p:pic>
        <p:nvPicPr>
          <p:cNvPr id="183" name="Rectangle 3" descr=""/>
          <p:cNvPicPr/>
          <p:nvPr/>
        </p:nvPicPr>
        <p:blipFill>
          <a:blip r:embed="rId3"/>
          <a:stretch/>
        </p:blipFill>
        <p:spPr>
          <a:xfrm>
            <a:off x="6645240" y="212760"/>
            <a:ext cx="2529000" cy="1146240"/>
          </a:xfrm>
          <a:prstGeom prst="rect">
            <a:avLst/>
          </a:prstGeom>
          <a:ln w="0">
            <a:noFill/>
          </a:ln>
        </p:spPr>
      </p:pic>
      <p:sp>
        <p:nvSpPr>
          <p:cNvPr id="184" name="TextBox 5"/>
          <p:cNvSpPr/>
          <p:nvPr/>
        </p:nvSpPr>
        <p:spPr>
          <a:xfrm>
            <a:off x="5429160" y="1773360"/>
            <a:ext cx="2928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5" name="Picture 5" descr="India_flag.gif"/>
          <p:cNvPicPr/>
          <p:nvPr/>
        </p:nvPicPr>
        <p:blipFill>
          <a:blip r:embed="rId4"/>
          <a:stretch/>
        </p:blipFill>
        <p:spPr>
          <a:xfrm>
            <a:off x="5357880" y="428616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2" descr=""/>
          <p:cNvPicPr/>
          <p:nvPr/>
        </p:nvPicPr>
        <p:blipFill>
          <a:blip r:embed="rId1"/>
          <a:stretch/>
        </p:blipFill>
        <p:spPr>
          <a:xfrm>
            <a:off x="219240" y="146160"/>
            <a:ext cx="8474040" cy="1231920"/>
          </a:xfrm>
          <a:prstGeom prst="rect">
            <a:avLst/>
          </a:prstGeom>
          <a:ln w="0">
            <a:noFill/>
          </a:ln>
        </p:spPr>
      </p:pic>
      <p:pic>
        <p:nvPicPr>
          <p:cNvPr id="187" name="Straight Arrow Connector 4" descr=""/>
          <p:cNvPicPr/>
          <p:nvPr/>
        </p:nvPicPr>
        <p:blipFill>
          <a:blip r:embed="rId2"/>
          <a:stretch/>
        </p:blipFill>
        <p:spPr>
          <a:xfrm>
            <a:off x="811080" y="3219480"/>
            <a:ext cx="7766280" cy="719280"/>
          </a:xfrm>
          <a:prstGeom prst="rect">
            <a:avLst/>
          </a:prstGeom>
          <a:ln w="0">
            <a:noFill/>
          </a:ln>
        </p:spPr>
      </p:pic>
      <p:sp>
        <p:nvSpPr>
          <p:cNvPr id="188" name="TextBox 11"/>
          <p:cNvSpPr/>
          <p:nvPr/>
        </p:nvSpPr>
        <p:spPr>
          <a:xfrm>
            <a:off x="1000080" y="2143080"/>
            <a:ext cx="100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irth of Asoka 300 BCE</a:t>
            </a:r>
            <a:endParaRPr b="0" lang="en-US" sz="1800" spc="-1" strike="noStrike">
              <a:solidFill>
                <a:srgbClr val="ffffff"/>
              </a:solidFill>
              <a:latin typeface="Arial"/>
            </a:endParaRPr>
          </a:p>
        </p:txBody>
      </p:sp>
      <p:sp>
        <p:nvSpPr>
          <p:cNvPr id="189" name="TextBox 12"/>
          <p:cNvSpPr/>
          <p:nvPr/>
        </p:nvSpPr>
        <p:spPr>
          <a:xfrm>
            <a:off x="3714840" y="22147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rriage 284 BCE</a:t>
            </a:r>
            <a:endParaRPr b="0" lang="en-US" sz="1800" spc="-1" strike="noStrike">
              <a:solidFill>
                <a:srgbClr val="ffffff"/>
              </a:solidFill>
              <a:latin typeface="Arial"/>
            </a:endParaRPr>
          </a:p>
        </p:txBody>
      </p:sp>
      <p:sp>
        <p:nvSpPr>
          <p:cNvPr id="190" name="TextBox 13"/>
          <p:cNvSpPr/>
          <p:nvPr/>
        </p:nvSpPr>
        <p:spPr>
          <a:xfrm>
            <a:off x="5072040" y="192888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onversion to Buddhism 263 BCE</a:t>
            </a:r>
            <a:endParaRPr b="0" lang="en-US" sz="1800" spc="-1" strike="noStrike">
              <a:solidFill>
                <a:srgbClr val="ffffff"/>
              </a:solidFill>
              <a:latin typeface="Arial"/>
            </a:endParaRPr>
          </a:p>
        </p:txBody>
      </p:sp>
      <p:sp>
        <p:nvSpPr>
          <p:cNvPr id="191" name="TextBox 14"/>
          <p:cNvSpPr/>
          <p:nvPr/>
        </p:nvSpPr>
        <p:spPr>
          <a:xfrm>
            <a:off x="2214720" y="2143080"/>
            <a:ext cx="1285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Reign begins 272 BCE</a:t>
            </a:r>
            <a:endParaRPr b="0" lang="en-US" sz="1800" spc="-1" strike="noStrike">
              <a:solidFill>
                <a:srgbClr val="ffffff"/>
              </a:solidFill>
              <a:latin typeface="Arial"/>
            </a:endParaRPr>
          </a:p>
        </p:txBody>
      </p:sp>
      <p:sp>
        <p:nvSpPr>
          <p:cNvPr id="192" name="TextBox 15"/>
          <p:cNvSpPr/>
          <p:nvPr/>
        </p:nvSpPr>
        <p:spPr>
          <a:xfrm>
            <a:off x="6715080" y="200016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ath in 232 B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ter the death of Asoka's father, Binder Sar, Ashoka and his older brother competed for the throne. The prime minister and other important ministers at the time though Asoka to be more discreet, capable and efficient ruler. </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next three years Ashoka focused on reestablishing peace.</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uring Asoka's rule theft declined and science, medicine and technology all flourished. </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ddhism received a significant boost of popularity  when Ashoka converted to Buddhism.  </a:t>
            </a:r>
            <a:endParaRPr b="0" lang="en-US" sz="2600" spc="-1" strike="noStrike">
              <a:solidFill>
                <a:srgbClr val="ffffff"/>
              </a:solidFill>
              <a:latin typeface="Constantia"/>
            </a:endParaRPr>
          </a:p>
        </p:txBody>
      </p:sp>
      <p:pic>
        <p:nvPicPr>
          <p:cNvPr id="19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Content Placeholder 3" descr="Chandragupta Maurya.jpg"/>
          <p:cNvPicPr/>
          <p:nvPr/>
        </p:nvPicPr>
        <p:blipFill>
          <a:blip r:embed="rId1"/>
          <a:stretch/>
        </p:blipFill>
        <p:spPr>
          <a:xfrm>
            <a:off x="428760" y="2973240"/>
            <a:ext cx="2428920" cy="3370320"/>
          </a:xfrm>
          <a:prstGeom prst="rect">
            <a:avLst/>
          </a:prstGeom>
          <a:ln w="0">
            <a:noFill/>
          </a:ln>
        </p:spPr>
      </p:pic>
      <p:pic>
        <p:nvPicPr>
          <p:cNvPr id="196" name="Title 2" descr=""/>
          <p:cNvPicPr/>
          <p:nvPr/>
        </p:nvPicPr>
        <p:blipFill>
          <a:blip r:embed="rId2"/>
          <a:stretch/>
        </p:blipFill>
        <p:spPr>
          <a:xfrm>
            <a:off x="219240" y="146160"/>
            <a:ext cx="8474040" cy="1231920"/>
          </a:xfrm>
          <a:prstGeom prst="rect">
            <a:avLst/>
          </a:prstGeom>
          <a:ln w="0">
            <a:noFill/>
          </a:ln>
        </p:spPr>
      </p:pic>
      <p:sp>
        <p:nvSpPr>
          <p:cNvPr id="197" name="TextBox 4"/>
          <p:cNvSpPr/>
          <p:nvPr/>
        </p:nvSpPr>
        <p:spPr>
          <a:xfrm>
            <a:off x="357120" y="150012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gupta was the grandfather of Aso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founded the Mauryan Empi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gained power shortly after Alexander ‘s death. Once he was in power he forced all Greek inhabitants to leave.</a:t>
            </a:r>
            <a:endParaRPr b="0" lang="en-US" sz="1800" spc="-1" strike="noStrike">
              <a:solidFill>
                <a:srgbClr val="ffffff"/>
              </a:solidFill>
              <a:latin typeface="Arial"/>
            </a:endParaRPr>
          </a:p>
        </p:txBody>
      </p:sp>
      <p:pic>
        <p:nvPicPr>
          <p:cNvPr id="198" name="Picture 2" descr="http://upload.wikimedia.org/wikipedia/commons/4/40/Chandragupta_mauryan_empire.GIF"/>
          <p:cNvPicPr/>
          <p:nvPr/>
        </p:nvPicPr>
        <p:blipFill>
          <a:blip r:embed="rId3"/>
          <a:stretch/>
        </p:blipFill>
        <p:spPr>
          <a:xfrm>
            <a:off x="5334120" y="3429000"/>
            <a:ext cx="3809880" cy="32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oka was a very compassionate king as he knew exactly what was happening in every portion of his kingdom. It is even said that he would not eat his supper until he fed 1000 Brahmins.</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 the east of Asoka’s empire was the empire of Kaling(a). Kalinga was a country that had very fertile lands and Ashoka decided that he wished to have these lands for himself. He surrounded the country with his soldiers. A war ensued and Ashoka stood in the aftermath of a battle and was appalled at how many suffered for his greed, he then took an oath to never wage war again.</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0" name="Title 2" descr=""/>
          <p:cNvPicPr/>
          <p:nvPr/>
        </p:nvPicPr>
        <p:blipFill>
          <a:blip r:embed="rId1"/>
          <a:stretch/>
        </p:blipFill>
        <p:spPr>
          <a:xfrm>
            <a:off x="219240" y="146160"/>
            <a:ext cx="8474040" cy="1231920"/>
          </a:xfrm>
          <a:prstGeom prst="rect">
            <a:avLst/>
          </a:prstGeom>
          <a:ln w="0">
            <a:noFill/>
          </a:ln>
        </p:spPr>
      </p:pic>
      <p:pic>
        <p:nvPicPr>
          <p:cNvPr id="201" name="Picture 3" descr="Kaling(a).g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gtEl>
                                        <p:attrNameLst>
                                          <p:attrName>style.visibility</p:attrName>
                                        </p:attrNameLst>
                                      </p:cBhvr>
                                      <p:to>
                                        <p:strVal val="visible"/>
                                      </p:to>
                                    </p:set>
                                    <p:anim calcmode="lin" valueType="num">
                                      <p:cBhvr additive="base">
                                        <p:cTn id="7" dur="500" fill="hold"/>
                                        <p:tgtEl>
                                          <p:spTgt spid="201"/>
                                        </p:tgtEl>
                                        <p:attrNameLst>
                                          <p:attrName>ppt_x</p:attrName>
                                        </p:attrNameLst>
                                      </p:cBhvr>
                                      <p:tavLst>
                                        <p:tav tm="0">
                                          <p:val>
                                            <p:strVal val="#ppt_x"/>
                                          </p:val>
                                        </p:tav>
                                        <p:tav tm="100000">
                                          <p:val>
                                            <p:strVal val="#ppt_x"/>
                                          </p:val>
                                        </p:tav>
                                      </p:tavLst>
                                    </p:anim>
                                    <p:anim calcmode="lin" valueType="num">
                                      <p:cBhvr additive="base">
                                        <p:cTn id="8"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ontent Placeholder 3" descr="India_flag.gif"/>
          <p:cNvPicPr/>
          <p:nvPr/>
        </p:nvPicPr>
        <p:blipFill>
          <a:blip r:embed="rId1"/>
          <a:stretch/>
        </p:blipFill>
        <p:spPr>
          <a:xfrm>
            <a:off x="4643280" y="3643200"/>
            <a:ext cx="3429000" cy="2286000"/>
          </a:xfrm>
          <a:prstGeom prst="rect">
            <a:avLst/>
          </a:prstGeom>
          <a:ln w="0">
            <a:noFill/>
          </a:ln>
        </p:spPr>
      </p:pic>
      <p:pic>
        <p:nvPicPr>
          <p:cNvPr id="203" name="Title 2" descr=""/>
          <p:cNvPicPr/>
          <p:nvPr/>
        </p:nvPicPr>
        <p:blipFill>
          <a:blip r:embed="rId2"/>
          <a:stretch/>
        </p:blipFill>
        <p:spPr>
          <a:xfrm>
            <a:off x="219240" y="146160"/>
            <a:ext cx="8474040" cy="1231920"/>
          </a:xfrm>
          <a:prstGeom prst="rect">
            <a:avLst/>
          </a:prstGeom>
          <a:ln w="0">
            <a:noFill/>
          </a:ln>
        </p:spPr>
      </p:pic>
      <p:sp>
        <p:nvSpPr>
          <p:cNvPr id="204" name="TextBox 4"/>
          <p:cNvSpPr/>
          <p:nvPr/>
        </p:nvSpPr>
        <p:spPr>
          <a:xfrm>
            <a:off x="428760" y="2143080"/>
            <a:ext cx="3357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soka’s death in 232 BCE  the people of India decided to commemorate Ashoka by using his personal  chakra. It can still be seen today on the Indian fla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d chakra is sandskrit and it means cycle or a repeating process.</a:t>
            </a:r>
            <a:endParaRPr b="0" lang="en-US" sz="1800" spc="-1" strike="noStrike">
              <a:solidFill>
                <a:srgbClr val="ffffff"/>
              </a:solidFill>
              <a:latin typeface="Arial"/>
            </a:endParaRPr>
          </a:p>
        </p:txBody>
      </p:sp>
      <p:pic>
        <p:nvPicPr>
          <p:cNvPr id="205" name="Straight Arrow Connector 6" descr=""/>
          <p:cNvPicPr/>
          <p:nvPr/>
        </p:nvPicPr>
        <p:blipFill>
          <a:blip r:embed="rId3"/>
          <a:stretch/>
        </p:blipFill>
        <p:spPr>
          <a:xfrm>
            <a:off x="6450120" y="2382840"/>
            <a:ext cx="1670040" cy="231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00040" y="1356840"/>
            <a:ext cx="8229600" cy="178596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s  chakra is also know as the wheel of the dharma (way) and it symbolizes the 24 virtues in Buddhism.  Some of these 24 virtues include: love, patience, peacefulness, courage, justice and mercy.</a:t>
            </a:r>
            <a:endParaRPr b="0" lang="en-US" sz="2600" spc="-1" strike="noStrike">
              <a:solidFill>
                <a:srgbClr val="ffffff"/>
              </a:solidFill>
              <a:latin typeface="Constantia"/>
            </a:endParaRPr>
          </a:p>
        </p:txBody>
      </p:sp>
      <p:pic>
        <p:nvPicPr>
          <p:cNvPr id="207" name="Title 2" descr=""/>
          <p:cNvPicPr/>
          <p:nvPr/>
        </p:nvPicPr>
        <p:blipFill>
          <a:blip r:embed="rId1"/>
          <a:stretch/>
        </p:blipFill>
        <p:spPr>
          <a:xfrm>
            <a:off x="219240" y="146160"/>
            <a:ext cx="8474040" cy="1231920"/>
          </a:xfrm>
          <a:prstGeom prst="rect">
            <a:avLst/>
          </a:prstGeom>
          <a:ln w="0">
            <a:noFill/>
          </a:ln>
        </p:spPr>
      </p:pic>
      <p:pic>
        <p:nvPicPr>
          <p:cNvPr id="208" name="Picture 4" descr=""/>
          <p:cNvPicPr/>
          <p:nvPr/>
        </p:nvPicPr>
        <p:blipFill>
          <a:blip r:embed="rId2"/>
          <a:stretch/>
        </p:blipFill>
        <p:spPr>
          <a:xfrm>
            <a:off x="285840" y="307188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nder Ashoka’s rule religion flourished. In particular Buddhism received a significant boost when Asoka converted to Buddhism.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nstantia"/>
              </a:rPr>
              <a:t>Buddhis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n created by Siddhartha Gautam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lieve in reincarnation, karma and nirvana (realm that is reached at the end of an individuals reincarnation cycl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in ideology includes self-sacrafice, humility and detachment from worldly pleasur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20:43:50Z</dcterms:created>
  <dc:creator>Administrator</dc:creator>
  <dc:description/>
  <dc:language>en-US</dc:language>
  <cp:lastModifiedBy>Annette Lydia</cp:lastModifiedBy>
  <dcterms:modified xsi:type="dcterms:W3CDTF">2009-12-21T00:53:03Z</dcterms:modified>
  <cp:revision>16</cp:revision>
  <dc:subject/>
  <dc:title>Asoka the Great</dc:title>
</cp:coreProperties>
</file>